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160DAD2-F25F-4136-9146-BBB921D01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5C182E0-2E55-44D9-88A3-07D301A658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0FF3DC8-D5ED-49A3-9D75-FE99049887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5BB0F21-C69E-4FF6-9CBF-2ABE996EC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3F1AFC2-A036-400C-9BDC-E117A2D5C3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4E44A84-A31E-48FF-A9AF-845067AF3B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3D3A39B-2956-4018-AFF6-2B08E3C428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A3D7D95-1A17-45E4-B490-5259916CB2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1F412F7-F9C0-4593-AD6A-DCADED711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25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TI Logo wide ppt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ransparentnost.org.rs/" TargetMode="External"/><Relationship Id="rId2" Type="http://schemas.openxmlformats.org/officeDocument/2006/relationships/hyperlink" Target="http://www.transparentnost.org.r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transparentnost.org.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TI Logo wide ppt"/>
          <p:cNvPicPr/>
          <p:nvPr/>
        </p:nvPicPr>
        <p:blipFill>
          <a:blip r:embed="rId3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91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1557360"/>
          <a:ext cx="8101080" cy="497844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v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dom House, Nations in Transit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nerezidenat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pitanici uglavnom potiču iz razvijenih zemalj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elsmann Foundation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U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onomist Intelligence Unit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Insight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untry Risk Ra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S ICRG (Political Risk Services International Country Risk Gu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čnjaci angažovani od strane bank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 institucij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F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 i WEF 2011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 of the World Economic Forum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Executive Opinion Surve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rezidenat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na Gora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3.3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PI 201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1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97000"/>
          <a:ext cx="8275680" cy="4633920"/>
        </p:xfrm>
        <a:graphic>
          <a:graphicData uri="http://schemas.openxmlformats.org/drawingml/2006/table">
            <a:tbl>
              <a:tblPr/>
              <a:tblGrid>
                <a:gridCol w="528480"/>
                <a:gridCol w="1087560"/>
                <a:gridCol w="531720"/>
                <a:gridCol w="639720"/>
                <a:gridCol w="636840"/>
                <a:gridCol w="639720"/>
                <a:gridCol w="636480"/>
                <a:gridCol w="638280"/>
                <a:gridCol w="636480"/>
                <a:gridCol w="638280"/>
                <a:gridCol w="495360"/>
                <a:gridCol w="495000"/>
                <a:gridCol w="671760"/>
              </a:tblGrid>
              <a:tr h="13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a</a:t>
                      </a: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Zem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oj 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raživanj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– CPI 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love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rvat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rna Gor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SCG 2000 – 20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ked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rbija (SC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2000-200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Evolucija Srbije (SCG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do</a:t>
            </a: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 200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)</a:t>
            </a:r>
            <a:br>
              <a:rPr sz="3200"/>
            </a:b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 na skali CPI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2" name="Rectangle 27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345440" cy="396072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27" descr=""/>
          <p:cNvPicPr/>
          <p:nvPr/>
        </p:nvPicPr>
        <p:blipFill>
          <a:blip r:embed="rId2"/>
          <a:stretch/>
        </p:blipFill>
        <p:spPr>
          <a:xfrm>
            <a:off x="4724280" y="1733400"/>
            <a:ext cx="3810240" cy="175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755640" y="1844640"/>
            <a:ext cx="78487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Ocene za Srbiju po izvorima </a:t>
            </a:r>
            <a:br>
              <a:rPr sz="3200"/>
            </a:b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za 2010 i 2011 godinu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2011                                        CPI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                            4.3                                                   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U                          3.2                                                   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                          3.7                                                    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                            3.3                                                   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ICRG              2.6                                        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F 2009               /                                                       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F 2010              3.1                                                    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F 2011              3.1                                        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.istrazivnja            7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na                 3.3                                                3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003: Očekivan veći pomak na listi, ali se percepcija sporo m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004: Napravljen novi pomak – približavanje realnom stanju stv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200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nac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prvi put nema ni minimalnog napretka, druge zemlje nas sustižu ili prestiž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mboličan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: Stagnaci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 očekivanje da će unapređenje zakonskog okvira doneti napredak u buduć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011: pad skora i nazadovanje na l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zultati CPI i Srbija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tisak o visokoj korumpiranosti imaju i građani Srbije, što proizlazi iz rezultata istraživanja koja se vrše na nacionalnom uzorku (npr. Globalni barometar korupc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lazi istraživanja građana javnog mnenja ne pokazuju značajne promene – percepcija korupcije je slična godinama; podaci o iskustvu sa korupcijom dugoročno pokazuju blagi pad nivoa „sitne korupcije“ u poslednjih pet g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eme za razmišlja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0" algn="just">
              <a:lnSpc>
                <a:spcPts val="26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itanje koje se nužno javlja: Da li je održavanje visoke percepcije korupcije posledica veće pažnje javnosti i otvorenijeg razmatranja problema ili se nivo korupcije zaista povećao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vorenije razmatranje problema, čak i kada vodi porastu percepcije korupcije, korisno je na duži rok, jer je preduslov da se borba protiv korupcije učini uspešnij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ts val="26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 li je moguće uticati na smanjenje percepcije korupcije izolovanim antikorupcijskim merama ili kampanjama? U najvećem broju slučajeva ne, zbog prirode istraživanja. Osim toga, prioritet treba da bude sprečavanje, otkrivanje i kažnjavanje aktuelne korupcije a ne promena utiska o njoj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Glavni problem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šenje usvojenih antikorupcijskih zakona i narušavanje pravne sigurnosti usvajanjem kontradiktornih ili nejasnih odred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ma učenja na osnovu otkrivenih slučajeva korupcije i otkrivenih obrazaca koruptivnog ponaš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ninstitucionalna moć političkih stranaka koji se odražava na rad čitavog javnog s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dovoljno transparentan proces donošenja odluka, nemogućnost građana da utiču na njihov sadržaj i neuređeno lob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potrebne procedure i državne intervencije koje povećavaju broj situacija u kojima do korupcije može da dođ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dovoljni kapaciteti organa koji vrše nadzor i kontrolu nad primenom zakona; diskreciona ovlašćenja u određivanju predmeta pro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CPI 201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 Map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16080" y="1138320"/>
            <a:ext cx="882792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5181480" y="765000"/>
            <a:ext cx="3962160" cy="4876920"/>
            <a:chOff x="5181480" y="765000"/>
            <a:chExt cx="3962160" cy="4876920"/>
          </a:xfrm>
        </p:grpSpPr>
        <p:pic>
          <p:nvPicPr>
            <p:cNvPr id="91" name="Picture 3" descr="TI KENYA_KUBI_JAN2002_"/>
            <p:cNvPicPr/>
            <p:nvPr/>
          </p:nvPicPr>
          <p:blipFill>
            <a:blip r:embed="rId1"/>
            <a:stretch/>
          </p:blipFill>
          <p:spPr>
            <a:xfrm>
              <a:off x="5181480" y="76500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4"/>
            <p:cNvSpPr/>
            <p:nvPr/>
          </p:nvSpPr>
          <p:spPr>
            <a:xfrm>
              <a:off x="5437440" y="76500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49690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različitih istraživanja i studija, koje je sprovelo 1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deks percepcije korupcije za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214280" y="1500120"/>
          <a:ext cx="6886800" cy="2279880"/>
        </p:xfrm>
        <a:graphic>
          <a:graphicData uri="http://schemas.openxmlformats.org/drawingml/2006/table">
            <a:tbl>
              <a:tblPr/>
              <a:tblGrid>
                <a:gridCol w="1689120"/>
                <a:gridCol w="1686240"/>
                <a:gridCol w="1687320"/>
                <a:gridCol w="1824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mlj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or (0-10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. istr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anj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i Zel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n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Šved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PI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ji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Rectangle 266"/>
          <p:cNvSpPr/>
          <p:nvPr/>
        </p:nvSpPr>
        <p:spPr>
          <a:xfrm>
            <a:off x="1500120" y="40006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68"/>
          <p:cNvSpPr/>
          <p:nvPr/>
        </p:nvSpPr>
        <p:spPr>
          <a:xfrm>
            <a:off x="1214280" y="928800"/>
            <a:ext cx="678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66ff"/>
                </a:solidFill>
                <a:latin typeface="Arial"/>
              </a:rPr>
              <a:t>Zemlje perci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32000" y="4581360"/>
          <a:ext cx="6784920" cy="2001960"/>
        </p:xfrm>
        <a:graphic>
          <a:graphicData uri="http://schemas.openxmlformats.org/drawingml/2006/table">
            <a:tbl>
              <a:tblPr/>
              <a:tblGrid>
                <a:gridCol w="888840"/>
                <a:gridCol w="2065320"/>
                <a:gridCol w="1973520"/>
                <a:gridCol w="185724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ml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 (0-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. is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nist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verna Kore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mal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0920" y="691920"/>
            <a:ext cx="79232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Najveći napredak na listi u odnosu na prošlu godinu su ostvari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or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veška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, Ta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jvan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, R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uanda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Gruzija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Čad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Najviše su nazadovali na listi u odnosu na prošlu godinu:</a:t>
            </a:r>
            <a:r>
              <a:rPr b="0" lang="vi-VN" sz="28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Oman i Ha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AND_~1A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 prilika u pojedinim zemljama i ne odražava nužno trendove za pojedine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Skor je relevantniji od mesta na tabeli (zato što se ponekada menja broj država/teritorija koje su uključ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Manje promene u skoru (do 0.3 poena) ne moraju biti posledica značajne promene percepcije korupcije, već istraživanja koja su obuhvaćena uzor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U 20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rangirano je ukupno 1</a:t>
            </a: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8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država</a:t>
            </a: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/teritorija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pet viš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 odnosu na 20</a:t>
            </a: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AND_~1A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Nedosta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red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I druga sredstva za procenu korupcije dovode do sličnih rezultata kao i C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PI je dobra šansa da se unapredi javna rasprava o koru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PI je dobar podsticaj za sprovođenje daljih 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PI obuhvata gotovo sve države s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etodološke napomene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buhvaćena u 7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od decembra 2009. do septembra 2011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 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4-01T08:14:00Z</dcterms:modified>
  <cp:revision>73</cp:revision>
  <dc:subject/>
  <dc:title>Slide 1</dc:title>
</cp:coreProperties>
</file>